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DB8-1788-4E4C-944B-775580FD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EC4-6346-46DC-91EC-85AA3A5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5B2-629C-4B1B-9DA6-E7641993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E70-62E3-4647-B8C9-652F7648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1BA-AE1F-4B5A-9FE6-2EE1823D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AF7-3043-4915-956F-BBD386C9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6EE-7DC3-4D99-ADC3-50F5334A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883-AE6D-4085-9FC5-E4F23CE0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594-44DF-4E66-81C6-C69BA424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678-418E-495B-9530-187A4B2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AC1-98BC-4741-AD39-EB74D4E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4F5-355E-41DE-98EB-FC5819D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imes New Roman"/>
              </a:rPr>
              <a:t>20.01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imes New Roman"/>
              </a:rPr>
              <a:t>EXPReS Board Meeting, Madrid, 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C9E72E8D-2FC0-4E6A-B96C-A4900E33E78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JRA1 -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istributed correlation – progress 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(PSNC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1351080"/>
            <a:ext cx="7099560" cy="50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F73-3273-4987-B51C-D94D55BF9A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WP 2.1.1 Grid – VLBI collaboration (PSNC)</a:t>
            </a:r>
            <a:r>
              <a:rPr b="0" lang="pl-P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LBI Brok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the VLBI Broker  (first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with Workflow Managemen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with Translati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distributed version of the VLBI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Network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628-21EA-4FF6-8D85-A16DC3DBB4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P 2.1.2 Grid Workflow Management (PSNC)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flow managemen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a Workflow Management Module with the following functi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load a vex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convert a vex file to CC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F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create an observation work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to submit a workflow for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rrelator Job Submission Mo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modul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VLBI Bro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C68-B295-4C0D-B8C1-AD795D20C2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P 2.1.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Grid routing (PSNC)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twork mo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of a modul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and implementation of a communication interface with VLBI Bro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983-44DE-4E52-9745-08A207F7AE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INGRID 2009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submission:  January 31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ull paper submission: April 1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4th International workshop on Distributed Cooperative Laboratories: „Instrumenting”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April 1-3, 2009 Sardinia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2960" y="49672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http://www.ingrid.cni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8D4-5CE3-4F17-82F7-9E97BCEBF3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Dominik Stoklosa</cp:lastModifiedBy>
  <dcterms:modified xsi:type="dcterms:W3CDTF">2009-01-21T12:43:16Z</dcterms:modified>
  <cp:revision>43</cp:revision>
  <dc:subject/>
  <dc:title>Slide 1</dc:title>
</cp:coreProperties>
</file>